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765-5154-475C-A09A-4B0B742F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4A2-C4DC-4485-9A02-18FBA292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2C1-E831-4888-B099-7686A14B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58B-E8BA-4B47-8CB2-0EB2C24C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8FE28-4CE3-4233-8502-C1B2798D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EE9A7-62F3-4EC7-8C1B-1045A22E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BCBFC-DD49-42C8-9E9F-5EAA3B8A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8649A-CE09-4D01-997D-37B05FF0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3A3CE-0CEA-4B17-AACC-798B34AC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35453-4436-46BE-B30A-FB39AFA1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34E42-BB58-4348-A35E-A8B82C3D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52F-EA01-4AC9-86B5-4CA9A2B5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86294-2552-4D6A-8E19-9733BCEC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B694C-EF44-4578-AA90-80F6B98A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B82E2-E301-4162-8131-F851BF18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543E9-E543-4056-9027-CDC88188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99745-E895-4C67-BBD1-A27D6468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807-1125-451F-AF11-DECC81E4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E77-6633-4DD7-86CF-7D06344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39F-D1CC-470B-A0B8-716B376E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D88-5DED-4183-9DC9-53A56D42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8DB-43D8-44B9-BC55-721B686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34D-128E-45AD-A69E-B19B1E9C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C1A-AD28-4F5F-9729-9815FC0D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3392-B418-42EF-A2E1-17F156A5E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8B3-3F35-4A5D-B785-E8071663D6F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градский райо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10 х. Куликовског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Ленинградский район</a:t>
            </a:r>
            <a:endParaRPr b="0" lang="en-US" sz="1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«Алфави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Гласные  и  согласные звуки» </a:t>
            </a:r>
            <a:br>
              <a:rPr sz="3200"/>
            </a:b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 5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исимова Т.А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писать творческую работу – сочинение-миниатюру о любых буквах алфави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4000" spc="-1" strike="noStrike">
                <a:solidFill>
                  <a:srgbClr val="c00000"/>
                </a:solidFill>
                <a:latin typeface="Tahoma"/>
              </a:rPr>
              <a:t>Спасибо  за  работу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Источники</a:t>
            </a:r>
            <a:br>
              <a:rPr sz="4000"/>
            </a:br>
            <a:r>
              <a:rPr b="1" lang="ru-RU" sz="4000" spc="-1" strike="noStrike">
                <a:solidFill>
                  <a:srgbClr val="ffde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Русский язык учебник в 3-х частях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ласс/ Львова С.И., Львов В.В. –  Москва.-  Мнемозина.-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znanija.com/task/10261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еседа</a:t>
            </a:r>
            <a:endParaRPr b="0" lang="en-US" sz="6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лфавит – альфа+ вита (греч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збука – аз+ бу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91960"/>
            <a:ext cx="69343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e7ed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абота над темой урока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 мы  продолжим  наш      разговор  о  звуках 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 какие  две  группы  делятся  звуки  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вуки 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гласные                          соглас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4952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ласные звуки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ложном мире звуков речи гласным «живется» легче, так как, образуясь, они на своем пути не встречают никаких преград – воздух свободно идет через р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сных звуков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а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о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э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и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ы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у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Задание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изнесите  каждый  гласный звук  в  отдельности. Проверьте правильность высказывания С.Марш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«дыхание  свободно  в  каждой  гласно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de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гласные  звуки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личие  от  гласных, при  образовании на    своем пути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встречают препятстви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: губы, зубы, язы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и  произношении согласного  нужно  хоть  чуть-чуть приоткрыть  рот, из-за  чего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получается шум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адание.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лесу, если вы заблудились, кричите «Ау»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пробуйте прокричать, используя только согласные звук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чему не получилос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кричать, нужен голос, а у согласных его почти нет, один шум име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Отгадай мультфильмы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Р - с - л - чк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р - с - в - ц - - ч - д - в - щ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 - п - Д - йл сп - ш - т н - п - м - щ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 - н - к - л - в Пр - ст - кв - ш - н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 -, п - г - д -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ыполнение тест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 каком ряду фамилии расположены строго в алфавитном порядке? </a:t>
            </a:r>
            <a:endParaRPr b="0" lang="en-US" sz="36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I вариан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Соколова, Степанов, Федотов, Цыган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околова, Степанов, Цыганков, Федо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Степанов, Соколова, Федотов, Цыган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Соколова, Федотов, Цыганков, Степ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II вариант: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Михалков, Миронов, ЛиньковЛанов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Линьков, Лановой, Михалков, Мир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Лановой, Линьков, миронов, Михал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Лановой, Миронов, Линьков, Михал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e7ed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дведение итогов.</a:t>
            </a:r>
            <a:br>
              <a:rPr sz="4000"/>
            </a:br>
            <a:r>
              <a:rPr b="1" lang="ru-RU" sz="4000" spc="-1" strike="noStrike">
                <a:solidFill>
                  <a:srgbClr val="ffde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Итак, что такое алфав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Для чего мы должны его хорошо знат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нам пригодятся наши зн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20T00:43:2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